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A88-C363-4E6E-941B-9A7223C3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C53-FC07-45B1-ACB1-6FD9E476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A8E-A7AA-4DD8-B2C1-9F32567C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7C0-B835-4C4B-BDB7-4ECF24DE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F8C3-363E-416E-9F9D-594EAF70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BE0D-3B1B-4A54-BB27-AF0AE3BF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1094-4D81-4AB0-97F3-AEEB5218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7259-0657-46D6-B40B-466F9C12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8623-E662-4B2A-AA0D-0EF2020A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B6AB-3A36-41CC-8869-38FD7370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830B-5407-4842-9F1B-D7A97218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049-8872-4D3A-993E-39B5DC39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E778-B421-4BA2-9F7F-A89BB1FC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8825-16DA-4258-B2D9-9A171B2D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2DBF-7C6E-4021-A066-0853A684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B4CD-6B85-4806-B87D-9177C8FF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BAA3-6E01-4E00-85B2-CDD32598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FDC-06DB-4B40-8CBF-09683D7D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E687-D331-496D-B02D-3BA3C192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8C2-07D6-48D9-8C43-41D19CB6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94E-5CAB-4181-A6BF-FFBC5DC1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72A-CBAB-4E09-ADA1-92333453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717-4BBB-478D-B61B-4135CF76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543-7A25-4ABE-B731-4EA62660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D75F-CFE0-46F9-ABA8-87E92D80B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027C-14C3-4910-877C-20613D3B8536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eve-lacey.com/misc/pad_01.jpg&amp;imgrefurl=http://www.steve-lacey.com/blogarchives/2006/01/ddr_controller.shtml&amp;usg=__EcPlJr1znnuKHEcEX7X-SkuXngQ=&amp;h=300&amp;w=302&amp;sz=22&amp;hl=EN&amp;start=31&amp;tbnid=FegShBML3tvLvM:&amp;tbnh=115&amp;tbnw=116&amp;prev=/images?q=pad&amp;gbv=2&amp;ndsp=18&amp;hl=EN&amp;sa=N&amp;start=18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www.germes-online.com/direct/dbimage/50021874/Box_Stitch_Mattress_Pad.jpg&amp;imgrefurl=http://www.germes-online.com/catalog/26/84/357/20035/sell_mattress_pad.html&amp;usg=__p1sVfTAbYRQeMzMWuD7uKIuLL7U=&amp;h=360&amp;w=360&amp;sz=27&amp;hl=EN&amp;start=18&amp;tbnid=iudVIS_4U4uitM:&amp;tbnh=121&amp;tbnw=121&amp;prev=/images?q=pad&amp;gbv=2&amp;ndsp=18&amp;hl=EN&amp;sa=N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technabob.com/blog/wp-content/uploads/2007/12/led_mouse_pad_flexiglow.jpg&amp;imgrefurl=http://technabob.com/blog/2007/12/23/led-mouse-pad-offers-a-light-show-for-your-desktop/&amp;usg=__LvG6uRm6rfiNiXXmX0S_4_8Fl9E=&amp;h=502&amp;w=520&amp;sz=34&amp;hl=EN&amp;start=4&amp;tbnid=SJAPYNMgY-H2MM:&amp;tbnh=126&amp;tbnw=131&amp;prev=/images?q=mouse+pad&amp;gbv=2&amp;hl=EN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ivatejetscharter.net/media/ch_private_jet.jpg&amp;imgrefurl=http://www.privatejetscharter.net/private-jets-one-of-the-safest-ways-to-travel.html&amp;usg=___YMzwtX1vE1gLYxahw-3hDKTKWo=&amp;h=310&amp;w=450&amp;sz=26&amp;hl=EN&amp;start=2&amp;tbnid=qxrVNeTWMceqPM:&amp;tbnh=87&amp;tbnw=127&amp;prev=/images?q=jet&amp;gbv=2&amp;hl=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orionwell.files.wordpress.com/2007/05/fish_net.jpg&amp;imgrefurl=http://futureperfectpublishing.com/category/publishing-networks/&amp;usg=__xX7p9bUwyiSLXvqwd_KuONgLDi4=&amp;h=334&amp;w=500&amp;sz=39&amp;hl=EN&amp;start=1&amp;tbnid=V1wIb1pETApIfM:&amp;tbnh=87&amp;tbnw=130&amp;prev=/images?q=fish+net&amp;gbv=2&amp;hl=E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chiphi-pi.org/b2b/pics/Dinning_Room_Set.jpg&amp;imgrefurl=http://www.chiphi-pi.org/b2b/bathroom_cabinets/1/&amp;usg=__0kdf-MHZxMvSE9cN69Wu-bP5_jg=&amp;h=403&amp;w=499&amp;sz=69&amp;hl=EN&amp;start=9&amp;tbnid=gf4Zqxn6bqruBM:&amp;tbnh=105&amp;tbnw=130&amp;prev=/images?q=set&amp;gbv=2&amp;ndsp=18&amp;hl=EN&amp;sa=N" TargetMode="External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gacymountainresort.com/cabins/1-bedrooms/the-greenbriar/images/den.jpg&amp;imgrefurl=http://www.legacymountainresort.com/cabins/1-bedrooms/the-greenbriar/?navmonth=102009&amp;idBookmarkName=&amp;usg=__xXe24T7GVib9AAgvp_Sk7fYio4k=&amp;h=360&amp;w=580&amp;sz=89&amp;hl=EN&amp;start=8&amp;tbnid=R3BSNK6vSk_wpM:&amp;tbnh=83&amp;tbnw=134&amp;prev=/images?q=den&amp;gbv=2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bear.org/website/images/stories/images/images-new/honey_emerging_from_den_on_030509.jpg&amp;imgrefurl=http://www.bear.org/website/index.php?option=com_content&amp;view=article&amp;id=216:honey-a-lucky-play-outside-their-den&amp;catid=32&amp;Itemid=83&amp;usg=__my9rFnL7hkAwZOY2weDWPzUgbhY=&amp;h=768&amp;w=1024&amp;sz=644&amp;hl=EN&amp;start=12&amp;tbnid=KU_Q_JLH8gSYcM:&amp;tbnh=113&amp;tbnw=150&amp;prev=/images?q=den&amp;gbv=2&amp;hl=EN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img.dailymail.co.uk/i/pix/2007/06_03/MarenHenSWNS_468x333.jpg&amp;imgrefurl=http://www.dailymail.co.uk/news/article-464914/Love-duck-Mother-hen-adopts-abandoned-ducklings.html&amp;usg=__KHcWbmzAGz2V8mT8jSrs-ORFfcA=&amp;h=333&amp;w=468&amp;sz=54&amp;hl=EN&amp;start=10&amp;tbnid=mE7iA9yRY5TESM:&amp;tbnh=91&amp;tbnw=128&amp;prev=/images?q=hen&amp;gbv=2&amp;hl=E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lobal-b2b-network.com/direct/dbimage/50036510/Multi_Function_Pen.jpg&amp;imgrefurl=http://www.global-b2b-network.com/b2b/51/52/1057/348234/multi_function_pen.html&amp;usg=__3CPO-Vo32xZpg1b-U1GwFULhCUc=&amp;h=360&amp;w=360&amp;sz=21&amp;hl=EN&amp;start=8&amp;tbnid=aA8qJEeDiwiPoM:&amp;tbnh=121&amp;tbnw=121&amp;prev=/images?q=pen&amp;gbv=2&amp;hl=E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cealdecote.files.wordpress.com/2006/12/wren.jpg&amp;imgrefurl=http://cealdecote.wordpress.com/2006/12/&amp;usg=__szbZZAdRPSmgaPRRgnjla8YSHwo=&amp;h=292&amp;w=370&amp;sz=10&amp;hl=EN&amp;start=4&amp;tbnid=suiF75ymQ3Xp1M:&amp;tbnh=96&amp;tbnw=122&amp;prev=/images?q=wren&amp;gbv=2&amp;hl=EN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.about.com/d/gymnastics/1/0/B/3/-/-/BothLegsBent-400.jpg&amp;imgrefurl=http://gymnastics.about.com/od/trainingadvice/ss/centersplit_4.htm&amp;usg=__60CLk5A1uDAQGjyiAQV4AB7QbLw=&amp;h=400&amp;w=382&amp;sz=31&amp;hl=EN&amp;start=13&amp;tbnid=uVrMh8wqFpKuZM:&amp;tbnh=124&amp;tbnw=118&amp;prev=/images?q=bent&amp;gbv=2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dentcrew.com/images/estimate/dentCrease-lg.jpg&amp;imgrefurl=http://dentcrew.com/estimate.html&amp;usg=__pRuUv7M7Hs5yE3IM42j3r-_2pH8=&amp;h=325&amp;w=433&amp;sz=25&amp;hl=EN&amp;start=3&amp;tbnid=JKOR9Ejugxp_oM:&amp;tbnh=95&amp;tbnw=126&amp;prev=/images?q=dent&amp;gbv=2&amp;hl=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geeksguidetodating.files.wordpress.com/2009/06/stately-gentleman-2.jpg&amp;imgrefurl=http://www.geeksguidetodating.com/10-ways-to-be-a-gentleman/&amp;usg=__Bpk-xJCxaKubQdwwZfAdjj1ejd0=&amp;h=1056&amp;w=816&amp;sz=81&amp;hl=EN&amp;start=2&amp;tbnid=AciG9y_Ywz5q2M:&amp;tbnh=150&amp;tbnw=116&amp;prev=/images?q=gentleman&amp;gbv=2&amp;hl=E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www.gadgetgrid.com/wp-content/uploads/2007/02/solar_tent.jpg&amp;imgrefurl=http://www.gadgetgrid.com/2007/02/20/solar-powered-tent-with-led-lights/&amp;usg=__C3ptt3kYW4p1RY25qpcodI7pqQ8=&amp;h=450&amp;w=450&amp;sz=34&amp;hl=EN&amp;start=1&amp;tbnid=0ZCMJOHXoWUcBM:&amp;tbnh=127&amp;tbnw=127&amp;prev=/images?q=tent&amp;gbv=2&amp;hl=EN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rvtravel.com/blog/rvnow/uploaded_images/floor-vent-1b-788111.jpg&amp;imgrefurl=http://rvnow.rvtravel.com/2007/03/heater-vent-covers.html&amp;usg=__nWoJtNaX3LjD3Rc7gDWxxdVKXXU=&amp;h=300&amp;w=400&amp;sz=28&amp;hl=EN&amp;start=4&amp;tbnid=iJ3sEjmycuEu3M:&amp;tbnh=93&amp;tbnw=124&amp;prev=/images?q=vent&amp;gbv=2&amp;hl=EN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www.pbs.org/wgbh/nova/volcano/images/anat_vent.jpg&amp;imgrefurl=http://www.pbs.org/wgbh/nova/volcano/anat_05.html&amp;usg=__X7FxfHnVGnRmkZY1Qha6V45C4pU=&amp;h=418&amp;w=488&amp;sz=25&amp;hl=EN&amp;start=6&amp;tbnid=PzhG8xM3EFh7pM:&amp;tbnh=111&amp;tbnw=130&amp;prev=/images?q=vent&amp;gbv=2&amp;hl=EN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Anansi%20Goes%20Fishing.htm" TargetMode="External"/><Relationship Id="rId2" Type="http://schemas.openxmlformats.org/officeDocument/2006/relationships/hyperlink" Target="http://www.scottsboro.org/~flewis/SF%20Reading%20Street/spellmaster/Anansi%20Goes%20Fishing/jigword2.html" TargetMode="External"/><Relationship Id="rId3" Type="http://schemas.openxmlformats.org/officeDocument/2006/relationships/hyperlink" Target="http://www.scottsboro.org/~flewis/SF%20Reading%20Street/spellmaster/Anansi%20Goes%20Fishing/matchword2.html" TargetMode="External"/><Relationship Id="rId4" Type="http://schemas.openxmlformats.org/officeDocument/2006/relationships/hyperlink" Target="http://www.scottsboro.org/~flewis/SF%20Reading%20Street/spellmaster/Anansi%20Goes%20Fishing/speedword2.html" TargetMode="External"/><Relationship Id="rId5" Type="http://schemas.openxmlformats.org/officeDocument/2006/relationships/hyperlink" Target="http://www.scottsboro.org/~flewis/SF%20Reading%20Street/spellmaster/Anansi%20Goes%20Fishing/wordsearch2.html" TargetMode="External"/><Relationship Id="rId6" Type="http://schemas.openxmlformats.org/officeDocument/2006/relationships/hyperlink" Target="http://www.scottsboro.org/~flewis/SF%20Reading%20Street/spellmaster/Anansi%20Goes%20Fishing/wordweb.html" TargetMode="External"/><Relationship Id="rId7" Type="http://schemas.openxmlformats.org/officeDocument/2006/relationships/hyperlink" Target="http://www.spellingcity.com/index.php?option=com_spellcity&amp;task=viewList&amp;listId=825999" TargetMode="External"/><Relationship Id="rId8" Type="http://schemas.openxmlformats.org/officeDocument/2006/relationships/hyperlink" Target="http://www.spellingcity.com/index.php?option=com_spellcity&amp;task=viewList&amp;listId=826004" TargetMode="External"/><Relationship Id="rId9" Type="http://schemas.openxmlformats.org/officeDocument/2006/relationships/hyperlink" Target="http://www.scottsboro.org/~flewis/SF%20Reading%20Street/spellmaster/Anansi%20Goes%20Fishing%20Spelling%20Words/speedword2.html" TargetMode="External"/><Relationship Id="rId10" Type="http://schemas.openxmlformats.org/officeDocument/2006/relationships/hyperlink" Target="http://www.scottsboro.org/~flewis/SF%20Reading%20Street/spellmaster/Anansi%20Goes%20Fishing%20Spelling%20Words/wordweb.html" TargetMode="External"/><Relationship Id="rId11" Type="http://schemas.openxmlformats.org/officeDocument/2006/relationships/hyperlink" Target="http://www.quia.com/rd/58344.html" TargetMode="External"/><Relationship Id="rId12" Type="http://schemas.openxmlformats.org/officeDocument/2006/relationships/hyperlink" Target="http://www.spellingcity.com/index.php?option=com_spellcity&amp;Itemid=122&amp;task=viewList&amp;listId=354244" TargetMode="External"/><Relationship Id="rId13" Type="http://schemas.openxmlformats.org/officeDocument/2006/relationships/hyperlink" Target="http://www.scottsboro.org/~flewis/SF%20Reading%20Street/Hot%20Potatoes/Anansi_Goes_Fishing.htm" TargetMode="External"/><Relationship Id="rId14" Type="http://schemas.openxmlformats.org/officeDocument/2006/relationships/hyperlink" Target="http://www.scottsboro.org/~flewis/SF%20Reading%20Street/Hot%20Potatoes/Anansi_Goes_Fishing.htm" TargetMode="External"/><Relationship Id="rId15" Type="http://schemas.openxmlformats.org/officeDocument/2006/relationships/hyperlink" Target="http://www.spellingcity.com/index.php?option=com_spellcity&amp;task=viewList&amp;listId=826007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8.xml"/><Relationship Id="rId3" Type="http://schemas.openxmlformats.org/officeDocument/2006/relationships/slide" Target="slide101.xml"/><Relationship Id="rId4" Type="http://schemas.openxmlformats.org/officeDocument/2006/relationships/slide" Target="slide123.xml"/><Relationship Id="rId5" Type="http://schemas.openxmlformats.org/officeDocument/2006/relationships/slide" Target="slide143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mbers.cox.net/kiter/hkf/kite_lbl_02.jpg&amp;imgrefurl=http://members.cox.net/kiter/hkf/hamm.html&amp;usg=__6ivDFxLNJcm9YLzYgjDoh0Gmvb0=&amp;h=350&amp;w=300&amp;sz=27&amp;hl=EN&amp;start=1&amp;tbnid=VoWvt2CUc7DrFM:&amp;tbnh=120&amp;tbnw=103&amp;prev=/images?q=kite&amp;gbv=2&amp;ndsp=18&amp;hl=EN&amp;sa=N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www.waterproducts.ca/images/dust_mite.jpg&amp;imgrefurl=http://www.waterproducts.ca/Air_facts.htm&amp;usg=__LzYoLb5LX6ZZagq_iG7OEz-QsRA=&amp;h=1221&amp;w=909&amp;sz=104&amp;hl=EN&amp;start=8&amp;tbnid=I8X1wjLRFNHxBM:&amp;tbnh=150&amp;tbnw=112&amp;prev=/images?q=mite&amp;gbv=2&amp;hl=EN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hyperlink" Target="http://www.americanfolklore.net/tricksters.html" TargetMode="External"/><Relationship Id="rId2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Anansi_Goes_Fishing.ht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image" Target="../media/image14.png"/><Relationship Id="rId3" Type="http://schemas.openxmlformats.org/officeDocument/2006/relationships/hyperlink" Target="http://images.google.com/imgres?imgurl=http://www.lazygirldesigns.com/blog/wp-content/uploads/2006/11/bias-partial-weave.jpg&amp;imgrefurl=http://www.lazygirldesigns.com/blog/?p=163&amp;usg=__tH_7AGIkPzRr9H_IQwMnJ1yfK9M=&amp;h=1199&amp;w=1800&amp;sz=338&amp;hl=en&amp;start=10&amp;tbnid=Ez2JoP9jb10LoM:&amp;tbnh=100&amp;tbnw=150&amp;prev=/images?q=weave&amp;gbv=2&amp;hl=en&amp;sa=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google.com/imgres?imgurl=http://www.policensw.com/info/forensic/images/weave.jpg&amp;imgrefurl=http://www.policensw.com/info/forensic/forensic7a.html&amp;usg=__ynv2qBYPgbcdIdX1UajJTNWrdv0=&amp;h=328&amp;w=338&amp;sz=41&amp;hl=en&amp;start=13&amp;tbnid=NhE_NpHqe-XiKM:&amp;tbnh=115&amp;tbnw=119&amp;prev=/images?q=weave&amp;gbv=2&amp;hl=en&amp;sa=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google.com/imgres?imgurl=http://www.simplesurvival.net/weave_howto.jpg&amp;imgrefurl=http://www.simplesurvival.net/howtoweave.htm&amp;usg=__Iy3p5DUnzJBz4bzPiGUrBhBtrD4=&amp;h=379&amp;w=371&amp;sz=32&amp;hl=en&amp;start=19&amp;tbnid=HO-qfcr137Ci1M:&amp;tbnh=123&amp;tbnw=120&amp;prev=/images?q=weave&amp;gbv=2&amp;hl=en&amp;sa=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ayoobtextile.com/images/waffle%20striped%20weave.jpg&amp;imgrefurl=http://www.ayoobtextile.com/Blankets%20Products.html&amp;usg=__kkmmczbS0Tu3oWJnrsqZFyNQ9r8=&amp;h=1042&amp;w=826&amp;sz=98&amp;hl=en&amp;start=24&amp;tbnid=l7fXgcsEbrbkhM:&amp;tbnh=150&amp;tbnw=119&amp;prev=/images?q=weave&amp;start=20&amp;gbv=2&amp;ndsp=20&amp;hl=en&amp;sa=N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images.google.com/imgres?imgurl=http://www.hammakaonline.com/store/images/hammaka_weave.jpg&amp;imgrefurl=http://www.hammakaonline.com/store/index.php?main_page=shopping_cart&amp;usg=__MzQBJgW-X1KLycvr-kNVcxZJ9LI=&amp;h=480&amp;w=480&amp;sz=63&amp;hl=en&amp;start=52&amp;tbnid=k3oeCuIUXcYzoM:&amp;tbnh=129&amp;tbnw=129&amp;prev=/images?q=weave&amp;start=40&amp;gbv=2&amp;ndsp=20&amp;hl=en&amp;sa=N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images.google.com/imgres?imgurl=http://www.mixedmediaartisans.com/gallery/Art%20Decor/slides/Random%20Weave%20Bowl.jpg&amp;imgrefurl=http://www.mixedmediaartisans.com/gallery/Art%20Decor/slides/Random%20Weave%20Bowl.html&amp;usg=__-B1LNUbiDcTRwFFm9VrADXlBM2g=&amp;h=413&amp;w=479&amp;sz=33&amp;hl=en&amp;start=41&amp;tbnid=1D__22pVk2fT1M:&amp;tbnh=111&amp;tbnw=129&amp;prev=/images?q=weave&amp;start=40&amp;gbv=2&amp;ndsp=20&amp;hl=en&amp;sa=N" TargetMode="External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837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br>
              <a:rPr sz="3600"/>
            </a:br>
            <a:r>
              <a:rPr b="1" i="1" lang="en-US" sz="2000" spc="-1" strike="noStrike">
                <a:solidFill>
                  <a:srgbClr val="161616"/>
                </a:solidFill>
                <a:latin typeface="Times New Roman"/>
              </a:rPr>
              <a:t>Click to listen to story.</a:t>
            </a:r>
            <a:endParaRPr b="0" i="1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79064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6" name="Picture 22" descr="Anansi Goes Fishi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19520" y="2362320"/>
            <a:ext cx="3794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resent, pas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nk of a time when you had a good idea and tell what happened when you used it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Yesterday Farmer Smart had a problem.  Today he finds a way to fix it.  Tomorrow he won</a:t>
                      </a:r>
                      <a:r>
                        <a:rPr b="1" i="1" lang="ja-JP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 have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ter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Farmer Smart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d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problem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finds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way to fix it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orrow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on</a:t>
                      </a:r>
                      <a:r>
                        <a:rPr b="1" i="1" lang="ja-JP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t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v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ong o: </a:t>
            </a:r>
            <a:r>
              <a:rPr b="1" i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, oa, 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ocabular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tentm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– tent – men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 feeling of being pleased or satisfi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og stretched and sighed i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fter dinner, we sat around the campfire in complet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u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you, it makes you feel better and healthy agai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medicine the doctor gave m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y r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cientists are searching for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or many different disea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incid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 – ci - 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something tha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movie had some very excit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n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om told us several funn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rom her tri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Read-Aloud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Fat Ca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Long o:  o, oa, ow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st, toad, sh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You can read these words because you know that the long o sound can be spelled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, oa,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ow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ddddd"/>
                </a:solidFill>
                <a:latin typeface="Times New Roman"/>
              </a:rPr>
              <a:t>Making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a – o</a:t>
            </a:r>
            <a:r>
              <a:rPr b="1" lang="en-US" sz="8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300" spc="-1" strike="noStrike">
                <a:solidFill>
                  <a:srgbClr val="000000"/>
                </a:solidFill>
                <a:latin typeface="Arial"/>
              </a:rPr>
              <a:t>d – g – l – m – t – w</a:t>
            </a:r>
            <a:r>
              <a:rPr b="0" lang="en-US" sz="6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3276720" y="1523880"/>
          <a:ext cx="3047760" cy="441972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a8a2d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whatever, tomorrow, finally, believe, today, caught, been</a:t>
            </a:r>
            <a:endParaRPr b="0" i="1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Sunday morning and said, 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 I don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 have to go to school.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love all kinds of foods and will eat ____ Dad puts on my plat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o you ___ fairy tales are true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ie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Yesterday I went fishing and ____ three fish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whatever, tomorrow, finally, believe, today, caught, been</a:t>
            </a:r>
            <a:endParaRPr b="0" i="1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Thursday and said, 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 is Friday!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have ___ sick for three day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can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 wait until I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 ___ old enough to driv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295280" y="1600200"/>
          <a:ext cx="2057400" cy="320040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Verdana"/>
              </a:rPr>
              <a:t>Word Family Word – glad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447920" y="838080"/>
          <a:ext cx="6359400" cy="57819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8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glad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72" name="Picture 2" descr="http://tbn2.google.com/images?q=tbn:FegShBML3tvLvM:http://www.steve-lacey.com/misc/pad_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33720"/>
            <a:ext cx="1614240" cy="1600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http://tbn1.google.com/images?q=tbn:iudVIS_4U4uitM:http://www.germes-online.com/direct/dbimage/50021874/Box_Stitch_Mattress_Pa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http://tbn3.google.com/images?q=tbn:SJAPYNMgY-H2MM:http://technabob.com/blog/wp-content/uploads/2007/12/led_mouse_pad_flexiglow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9120" y="2200320"/>
            <a:ext cx="1673280" cy="16095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7"/>
          <p:cNvSpPr/>
          <p:nvPr/>
        </p:nvSpPr>
        <p:spPr>
          <a:xfrm>
            <a:off x="1380960" y="373392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ame pa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6" name="TextBox 8"/>
          <p:cNvSpPr/>
          <p:nvPr/>
        </p:nvSpPr>
        <p:spPr>
          <a:xfrm>
            <a:off x="3439080" y="38098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attress pa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7" name="TextBox 9"/>
          <p:cNvSpPr/>
          <p:nvPr/>
        </p:nvSpPr>
        <p:spPr>
          <a:xfrm>
            <a:off x="6030000" y="38098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use pa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Vocabulary:  Antonym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066320"/>
            <a:ext cx="815328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member that at the end of the story, Turtle w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more he ate, the more full he becam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nansi, however, was the opposite of fu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word means the opposite of full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are opposites, or antonym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e saw a toy in the drive w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 saw a toy in the drivew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some 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me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sum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- su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, you eat it or use it all u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ur famil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 huge bowl of popcorn while we watched TV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lot of my extra time 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y homework and playing ba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Y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luency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poem about how spiders avoid their own sticky trap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scribe Anansi and Turtle, making sure to use at least one pair of antonyms</a:t>
                      </a:r>
                      <a:r>
                        <a:rPr b="0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small clever insect.  A spider spins long, sticky webs to trap bugs to eat.  Do you know why the spider doesn</a:t>
                      </a:r>
                      <a:r>
                        <a:rPr b="1" i="1" lang="ja-JP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v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insect.  A spider spin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, sticky webs to trap bugs to eat.  Do you know why the spider doesn</a:t>
                      </a:r>
                      <a:r>
                        <a:rPr b="1" i="1" lang="ja-JP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Interpret Media Imag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523880" y="2133720"/>
          <a:ext cx="2590920" cy="28191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Read-Aloud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The Hippopotamus and a Monkey</a:t>
            </a:r>
            <a:r>
              <a:rPr b="0" lang="ja-JP" sz="4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s Hear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entence Read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Did your parents see everybody play tennis?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 see lots of shells wash up on the seashore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eddy keeps me company when nobody is home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entence Read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 will paint a picture at recess when I am at school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ast weekend we drove to  a faraway place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y three teammates told me the answer after the reading test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pre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n animal that is hunted and killed by another animal for foo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mall fish are often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bigger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ice are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cat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295280" y="1600200"/>
          <a:ext cx="2057400" cy="32767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pet</a:t>
            </a:r>
            <a:br>
              <a:rPr sz="4400"/>
            </a:b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1752480" y="762120"/>
          <a:ext cx="6359760" cy="578160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8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ddddd"/>
                </a:solidFill>
                <a:latin typeface="Verdana"/>
              </a:rPr>
              <a:t>Word Family Word – pet</a:t>
            </a:r>
            <a:endParaRPr b="0" i="1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608" name="Picture 2" descr="http://tbn1.google.com/images?q=tbn:qxrVNeTWMceqPM:http://www.privatejetscharter.net/media/ch_private_j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981080"/>
            <a:ext cx="2210040" cy="1514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http://tbn0.google.com/images?q=tbn:V1wIb1pETApIfM:http://orionwell.files.wordpress.com/2007/05/fish_ne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1981080"/>
            <a:ext cx="2163600" cy="14479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http://tbn1.google.com/images?q=tbn:gf4Zqxn6bqruBM:http://www.chiphi-pi.org/b2b/pics/Dinning_Room_Se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057400"/>
            <a:ext cx="1752840" cy="1415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http://tbn0.google.com/images?q=tbn:9O542IPIZUJrvM:http://www.cciarizona.org/images/Landis%2520and%2520vet.jpg"/>
          <p:cNvPicPr/>
          <p:nvPr/>
        </p:nvPicPr>
        <p:blipFill>
          <a:blip r:embed="rId7"/>
          <a:stretch/>
        </p:blipFill>
        <p:spPr>
          <a:xfrm>
            <a:off x="3581280" y="4495680"/>
            <a:ext cx="1554120" cy="1905120"/>
          </a:xfrm>
          <a:prstGeom prst="rect">
            <a:avLst/>
          </a:prstGeom>
          <a:ln w="0">
            <a:noFill/>
          </a:ln>
        </p:spPr>
      </p:pic>
      <p:sp>
        <p:nvSpPr>
          <p:cNvPr id="612" name="TextBox 8"/>
          <p:cNvSpPr/>
          <p:nvPr/>
        </p:nvSpPr>
        <p:spPr>
          <a:xfrm>
            <a:off x="5413320" y="52578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v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3" name="TextBox 9"/>
          <p:cNvSpPr/>
          <p:nvPr/>
        </p:nvSpPr>
        <p:spPr>
          <a:xfrm>
            <a:off x="1222920" y="35053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j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4270680" y="3429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5" name="TextBox 11"/>
          <p:cNvSpPr/>
          <p:nvPr/>
        </p:nvSpPr>
        <p:spPr>
          <a:xfrm>
            <a:off x="6410520" y="35053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ining s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276720" y="1523880"/>
          <a:ext cx="3047760" cy="441972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a8a2d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Poetr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oems are written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se lines are arranged in groups cal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e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ach line often begins with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letter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, even if the line does not begin a new senten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any poems have words t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m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Poetr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ometimes authors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teration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lliteration is using words with repeating consonant soun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ad the title and find the allitera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ders, sti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s we read the poem, look for oth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teration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lso look in the poem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onym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fish in the pond yesserd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fished in the pond yesterd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will fished agen tomorro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ill fish again tomorrow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played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play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hrewd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or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very clever and smar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Dad told me to b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deciding what to do with my allowan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etective made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plan to catch the thie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cleaned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n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lean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Y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xt to Tex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 monkey that tricked a hippopotamu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ake a list of animals that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unt for prey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s week we read about characters who had creative idea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90720" y="21715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High-Frequency Words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lphabetical Order to the Second Lett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523880" y="1905120"/>
          <a:ext cx="2590920" cy="28191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Read-Aloud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The Hippopotamus and a Monkey</a:t>
            </a:r>
            <a:r>
              <a:rPr b="0" lang="ja-JP" sz="4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s Hear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basketball for his birthday last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for his birthday la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omeone will watch the sailboat near the seasho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on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will watc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lboa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a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sho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something in the treehouse by our drive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ho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y 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breakfast and they were everywhe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fas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and they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3276720" y="1523880"/>
          <a:ext cx="3047760" cy="441972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236232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61616"/>
                </a:solidFill>
                <a:latin typeface="Times New Roman"/>
              </a:rPr>
              <a:t>Click to listen to a song about clever fish.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37" name="Picture 2" descr="Clever Little Fishies"/>
          <p:cNvPicPr/>
          <p:nvPr/>
        </p:nvPicPr>
        <p:blipFill>
          <a:blip r:embed="rId1"/>
          <a:srcRect l="0" t="0" r="0" b="6406"/>
          <a:stretch/>
        </p:blipFill>
        <p:spPr>
          <a:xfrm>
            <a:off x="3809880" y="152280"/>
            <a:ext cx="513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br>
              <a:rPr sz="4000"/>
            </a:b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been, finally, whatever, today, tomorrow, believe</a:t>
            </a:r>
            <a:endParaRPr b="0" i="1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____ a fish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ght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an you ___ I got my wish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ie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_ will I do with it?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I sa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 was a great day!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br>
              <a:rPr sz="4000"/>
            </a:b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been, finally, whatever, today, tomorrow, believe</a:t>
            </a:r>
            <a:endParaRPr b="0" i="1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m said ____ I could go agai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he said I could ___ take my friend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f I do not take him, he will not know where I have _____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295280" y="1905120"/>
          <a:ext cx="2057400" cy="320040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i want to do some thing fur bill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ant to do something for Bill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do you had any ideas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 you have any ideas?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ctionaries, glossaries, and names in a telephone book are all arrang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habetical order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ords that begin wi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me before words that begin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, and so 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ometimes two or more words begin with the same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this happens, we alphabetize by the second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, friend, fish, spider, 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ri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pid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, where, 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, stupid, 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tupi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, tomorrow, 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, cook, 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o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–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oday we</a:t>
            </a:r>
            <a:r>
              <a:rPr b="0" lang="ja-JP" sz="3200" spc="-1" strike="noStrike">
                <a:solidFill>
                  <a:srgbClr val="336699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ll learn about combining two words, such as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, to make a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sail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Our Week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Talk About Creative Ideas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goo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ba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we will read about two sisters who use creative ideas to help each oth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bout a spider's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 prey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1523880" y="1752480"/>
          <a:ext cx="6096240" cy="399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00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' Africa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 Africa with Anansi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ream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ory, A Story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nky the Tooth Take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et Quest for Opposi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e Go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g and Drop</a:t>
                      </a: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523880" y="17524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2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e circle to make a compound wor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Ready to Rea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St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 G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der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APT Plus Videos</a:t>
            </a:r>
            <a:br>
              <a:rPr sz="4400"/>
            </a:b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Password Required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Story, A Stor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thica's Mathshop: Food for Though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l about Folktales: Folktales from Afa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frican and African-American Folktale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op, Look Listen: Okey Cokey Karaoke:Anansi, Cat,and Ra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Emperor's New Cloth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al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ow Anansi Obtained the Sky God's Stor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take our story tests.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Quiz # 904599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To read compound words, first chunk the word into two word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Read the two words and then blend them into one word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Let</a:t>
            </a:r>
            <a:r>
              <a:rPr b="0" lang="ja-JP" sz="2800" spc="-1" strike="noStrike">
                <a:solidFill>
                  <a:srgbClr val="336699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 blend this word together: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sail-boat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omeon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bedtim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nowstor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panc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mayb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dayti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upcak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li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haysta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networ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9933"/>
                </a:solidFill>
                <a:latin typeface="Verdana"/>
              </a:rPr>
              <a:t>Small</a:t>
            </a:r>
            <a:r>
              <a:rPr b="1" lang="en-US" sz="66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6600" spc="-1" strike="noStrike">
                <a:solidFill>
                  <a:srgbClr val="999933"/>
                </a:solidFill>
                <a:latin typeface="Verdana"/>
              </a:rPr>
              <a:t>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cbcbcb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choolyar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everyth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athtu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dro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lipsti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pla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123720" y="1752480"/>
            <a:ext cx="29718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sebal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ar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ailroa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old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r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ayche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nowfl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ndlo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95480" y="182880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asho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pto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irth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eek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nt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ckya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bys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rasshopp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en you read compound words, chunk the word into two small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ead the two words and blend them into one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295280" y="1752480"/>
          <a:ext cx="2057400" cy="320040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then</a:t>
            </a:r>
            <a:br>
              <a:rPr sz="4400"/>
            </a:br>
            <a:r>
              <a:rPr b="0" i="1" lang="en-US" sz="1600" spc="-1" strike="noStrike" u="sng">
                <a:solidFill>
                  <a:srgbClr val="cbcbcb"/>
                </a:solidFill>
                <a:uFillTx/>
                <a:latin typeface="Verdana"/>
                <a:hlinkClick r:id="rId1"/>
              </a:rPr>
              <a:t>(online dictionary)</a:t>
            </a:r>
            <a:endParaRPr b="0" i="1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676520" y="1600200"/>
          <a:ext cx="6359400" cy="47577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8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24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wh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wr</a:t>
                      </a:r>
                      <a:r>
                        <a:rPr b="0" lang="en-US" sz="2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then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60" name="Picture 2" descr="http://tbn2.google.com/images?q=tbn:R3BSNK6vSk_wpM:http://www.legacymountainresort.com/cabins/1-bedrooms/the-greenbriar/images/d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981080"/>
            <a:ext cx="1905120" cy="1179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http://tbn0.google.com/images?q=tbn:KU_Q_JLH8gSYcM:http://www.bear.org/website/images/stories/images/images-new/honey_emerging_from_den_on_03050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1905120"/>
            <a:ext cx="1719360" cy="1295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http://tbn2.google.com/images?q=tbn:mE7iA9yRY5TESM:http://img.dailymail.co.uk/i/pix/2007/06_03/MarenHenSWNS_468x33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59480" y="1905120"/>
            <a:ext cx="1716120" cy="1218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http://tbn2.google.com/images?q=tbn:aA8qJEeDiwiPoM:http://www.global-b2b-network.com/direct/dbimage/50036510/Multi_Function_Pe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66880" y="4114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http://tbn1.google.com/images?q=tbn:suiF75ymQ3Xp1M:http://cealdecote.files.wordpress.com/2006/12/wren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4191120"/>
            <a:ext cx="1549440" cy="12189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9"/>
          <p:cNvSpPr/>
          <p:nvPr/>
        </p:nvSpPr>
        <p:spPr>
          <a:xfrm>
            <a:off x="1528920" y="3124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4272480" y="3200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69343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2976840" y="5486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9" name="TextBox 14"/>
          <p:cNvSpPr/>
          <p:nvPr/>
        </p:nvSpPr>
        <p:spPr>
          <a:xfrm>
            <a:off x="5416200" y="54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r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went</a:t>
            </a:r>
            <a:br>
              <a:rPr sz="4400"/>
            </a:br>
            <a:r>
              <a:rPr b="0" i="1" lang="en-US" sz="1600" spc="-1" strike="noStrike" u="sng">
                <a:solidFill>
                  <a:srgbClr val="cbcbcb"/>
                </a:solidFill>
                <a:uFillTx/>
                <a:latin typeface="Verdana"/>
                <a:hlinkClick r:id="rId1"/>
              </a:rPr>
              <a:t>(online dictionary)</a:t>
            </a:r>
            <a:endParaRPr b="0" i="1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52480" y="1371600"/>
          <a:ext cx="6359760" cy="527040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50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76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w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3" name="Picture 2" descr="http://tbn0.google.com/images?q=tbn:uVrMh8wqFpKuZM:http://z.about.com/d/gymnastics/1/0/B/3/-/-/BothLegsBent-4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1377720" cy="1447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http://tbn1.google.com/images?q=tbn:JKOR9Ejugxp_oM:http://dentcrew.com/images/estimate/dentCrease-l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828800"/>
            <a:ext cx="1717560" cy="1295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http://tbn2.google.com/images?q=tbn:AciG9y_Ywz5q2M:http://geeksguidetodating.files.wordpress.com/2009/06/stately-gentleman-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1828800"/>
            <a:ext cx="1414440" cy="182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http://tbn0.google.com/images?q=tbn:0ZCMJOHXoWUcBM:http://www.gadgetgrid.com/wp-content/uploads/2007/02/solar_ten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1828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ttp://tbn0.google.com/images?q=tbn:iJ3sEjmycuEu3M:http://rvtravel.com/blog/rvnow/uploaded_images/floor-vent-1b-78811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411480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http://tbn2.google.com/images?q=tbn:PzhG8xM3EFh7pM:http://www.pbs.org/wgbh/nova/volcano/images/anat_vent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30920" y="4114800"/>
            <a:ext cx="1427040" cy="1219320"/>
          </a:xfrm>
          <a:prstGeom prst="rect">
            <a:avLst/>
          </a:prstGeom>
          <a:ln w="0">
            <a:noFill/>
          </a:ln>
        </p:spPr>
      </p:pic>
      <p:sp>
        <p:nvSpPr>
          <p:cNvPr id="379" name="TextBox 8"/>
          <p:cNvSpPr/>
          <p:nvPr/>
        </p:nvSpPr>
        <p:spPr>
          <a:xfrm>
            <a:off x="122400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3510000" y="31240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1" name="TextBox 10"/>
          <p:cNvSpPr/>
          <p:nvPr/>
        </p:nvSpPr>
        <p:spPr>
          <a:xfrm>
            <a:off x="5414760" y="3276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b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2" name="TextBox 11"/>
          <p:cNvSpPr/>
          <p:nvPr/>
        </p:nvSpPr>
        <p:spPr>
          <a:xfrm>
            <a:off x="7318800" y="32004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4042800" y="5334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6100200" y="5334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ja-JP" sz="6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 Talk About: Creative Ideas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Review Gam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7"/>
              </a:rPr>
              <a:t>Spelling City- Voc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57800" y="12952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5"/>
              </a:rPr>
              <a:t>Spelling C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ja-JP" sz="4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 Talk About: Creative Ideas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5800" y="179064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Student Pages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61616"/>
                </a:solidFill>
                <a:latin typeface="Times New Roman"/>
              </a:rPr>
              <a:t>Read-Aloud</a:t>
            </a:r>
            <a:br>
              <a:rPr sz="7200"/>
            </a:br>
            <a:r>
              <a:rPr b="0" i="1" lang="en-US" sz="5400" spc="-1" strike="noStrike">
                <a:solidFill>
                  <a:srgbClr val="ffc000"/>
                </a:solidFill>
                <a:latin typeface="Times New Roman"/>
              </a:rPr>
              <a:t>Clever Is as Clever Does</a:t>
            </a:r>
            <a:endParaRPr b="0" i="1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-609480"/>
            <a:ext cx="853452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ir purse is durt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r purse is dirt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tirtle ca</a:t>
            </a:r>
            <a:r>
              <a:rPr b="1" lang="ja-JP" sz="4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nt run fas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turtle can</a:t>
            </a: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 run fast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Jeb bakes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tells about now.  It ends with –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baked tells about the past.  It ends with –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b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bake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lls about the future.  It begins with wi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invents new kinds of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sprinkles coconu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600200" y="1981080"/>
          <a:ext cx="2590920" cy="28958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9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added pineappl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will use squ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will make my own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m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y own muffins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Our Da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about a trickster named Anansi who gets tricked himsel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 paragraph about a time when you were shrewd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someone tries to trick you or when anyone lies to you?  What is something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ries to trick you or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lies to you?  What i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76720" y="1523880"/>
          <a:ext cx="3047760" cy="441972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Read-Aloud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Fat Ca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boas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who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rags or speaks too well of himself of hersel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girl alway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her grad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Jim says he can run faster than I can, but I think h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 just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glo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think about something you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re very satisfied with,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two farmers in the stor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hat their machines would get rid of the mi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y big brother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his team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 first win all s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nick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 - 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, you giggle or laugh in a mean 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one farmer saw the other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 mouse-catching machine, 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kid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the strange-looking ca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28954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listen to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istake in the Lake.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36" name="Picture 2" descr="Phonics Songs and Rhymes Chart 13"/>
          <p:cNvPicPr/>
          <p:nvPr/>
        </p:nvPicPr>
        <p:blipFill>
          <a:blip r:embed="rId1"/>
          <a:srcRect l="0" t="0" r="0" b="13397"/>
          <a:stretch/>
        </p:blipFill>
        <p:spPr>
          <a:xfrm>
            <a:off x="4038480" y="120600"/>
            <a:ext cx="480060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948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Arial"/>
                <a:ea typeface="Arial"/>
              </a:rPr>
              <a:t>Word Reading: </a:t>
            </a:r>
            <a:br>
              <a:rPr sz="4000"/>
            </a:br>
            <a:r>
              <a:rPr b="1" i="1" lang="en-US" sz="3600" spc="-1" strike="noStrike">
                <a:solidFill>
                  <a:srgbClr val="dddddd"/>
                </a:solidFill>
                <a:latin typeface="Arial"/>
                <a:ea typeface="Arial"/>
              </a:rPr>
              <a:t>Pick out the compound words in </a:t>
            </a:r>
            <a:r>
              <a:rPr b="1" i="1" lang="ja-JP" sz="3600" spc="-1" strike="noStrike">
                <a:solidFill>
                  <a:srgbClr val="dddddd"/>
                </a:solidFill>
                <a:latin typeface="Arial"/>
                <a:ea typeface="Arial"/>
              </a:rPr>
              <a:t>“</a:t>
            </a:r>
            <a:r>
              <a:rPr b="1" i="1" lang="en-US" sz="3600" spc="-1" strike="noStrike">
                <a:solidFill>
                  <a:srgbClr val="dddddd"/>
                </a:solidFill>
                <a:latin typeface="Arial"/>
                <a:ea typeface="Arial"/>
              </a:rPr>
              <a:t>Mistake in the Lake.</a:t>
            </a:r>
            <a:r>
              <a:rPr b="1" i="1" lang="ja-JP" sz="3600" spc="-1" strike="noStrike">
                <a:solidFill>
                  <a:srgbClr val="dddddd"/>
                </a:solidFill>
                <a:latin typeface="Arial"/>
                <a:ea typeface="Arial"/>
              </a:rPr>
              <a:t>”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123720" y="2171880"/>
            <a:ext cx="533412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p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utsid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m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unchbox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unscre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alfw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omeo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295280" y="1600200"/>
          <a:ext cx="2057400" cy="320040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Big Question: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basketball in the driveway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birthday party will be in the backya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riverbank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popcorn before bedtime on the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answer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popcor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efor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dtim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o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371600" y="1828800"/>
          <a:ext cx="2057400" cy="32767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write</a:t>
            </a:r>
            <a:br>
              <a:rPr sz="4400"/>
            </a:br>
            <a:r>
              <a:rPr b="0" i="1" lang="en-US" sz="1600" spc="-1" strike="noStrike" u="sng">
                <a:solidFill>
                  <a:srgbClr val="cbcbcb"/>
                </a:solidFill>
                <a:uFillTx/>
                <a:latin typeface="Verdana"/>
                <a:hlinkClick r:id="rId1"/>
              </a:rPr>
              <a:t>(online dictionary)</a:t>
            </a:r>
            <a:endParaRPr b="0" i="1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wh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qu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writ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3" name="Picture 2" descr="http://tbn3.google.com/images?q=tbn:VoWvt2CUc7DrFM:http://members.cox.net/kiter/hkf/kite_lbl_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362320"/>
            <a:ext cx="1743120" cy="2030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http://tbn1.google.com/images?q=tbn:I8X1wjLRFNHxBM:http://www.waterproducts.ca/images/dust_mit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2209680"/>
            <a:ext cx="1593720" cy="2133720"/>
          </a:xfrm>
          <a:prstGeom prst="rect">
            <a:avLst/>
          </a:prstGeom>
          <a:ln w="0">
            <a:noFill/>
          </a:ln>
        </p:spPr>
      </p:pic>
      <p:sp>
        <p:nvSpPr>
          <p:cNvPr id="495" name="TextBox 6"/>
          <p:cNvSpPr/>
          <p:nvPr/>
        </p:nvSpPr>
        <p:spPr>
          <a:xfrm>
            <a:off x="2976120" y="4419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ki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6" name="TextBox 7"/>
          <p:cNvSpPr/>
          <p:nvPr/>
        </p:nvSpPr>
        <p:spPr>
          <a:xfrm>
            <a:off x="5569560" y="4267080"/>
            <a:ext cx="15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ust mi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s you read, ask yourself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ook for clue words, such as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cause,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that signal cau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hen you read a story, ask yourself questions like: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o is this story about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ere does it happe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is happening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don</a:t>
            </a:r>
            <a:r>
              <a:rPr b="0" lang="ja-JP" sz="36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t know the answer to a question, then stop the way you have been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You might need to slow dow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read more slowly, you can better understand what you are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As you read </a:t>
            </a:r>
            <a:r>
              <a:rPr b="0" lang="ja-JP" sz="36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Anansi Goes Fishing</a:t>
            </a:r>
            <a:r>
              <a:rPr b="0" lang="ja-JP" sz="3600" spc="-1" strike="noStrike">
                <a:solidFill>
                  <a:srgbClr val="336699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ask yourself these questions: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hat are the characters like in the story?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Do I remember what has happened in the story so far?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Should I read the story more slowly to understand what is happening?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bcbcb"/>
                </a:solidFill>
                <a:uFillTx/>
                <a:latin typeface="Times New Roman"/>
                <a:hlinkClick r:id="rId1"/>
              </a:rPr>
              <a:t>Trickster Tal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4479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ometimes characters try to trick one another to get what they want.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76720" y="1523880"/>
          <a:ext cx="3047760" cy="411480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High-Frequency Word Review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179064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o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ro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52520" y="179064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atch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lie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nal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00200" y="2057400"/>
          <a:ext cx="2590920" cy="28195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1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zy – not liking to work or be activ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1" action="ppaction://hlinksldjump"/>
              </a:rPr>
              <a:t>weav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– to form threads into cloth or web or to make straw into hats or baske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licious – something that tastes really go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ustice- something that is fair and righ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bcbcb"/>
                </a:solidFill>
                <a:uFillTx/>
                <a:latin typeface="Times New Roman"/>
                <a:hlinkClick r:id="rId1" action="ppaction://hlinksldjump"/>
              </a:rPr>
              <a:t>weav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685800" y="1066320"/>
            <a:ext cx="7772400" cy="48387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bias-partial-weav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0666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9" descr="weav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066680"/>
            <a:ext cx="2514600" cy="24307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1" descr="weave_howt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80040" y="1066680"/>
            <a:ext cx="2378160" cy="24386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3" descr="waffle%2520striped%2520weav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352680" y="2971800"/>
            <a:ext cx="2281320" cy="2876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7" descr="hammaka_weav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3591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Random%2520Weave%2520Bow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867280" y="3619440"/>
            <a:ext cx="26002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br>
              <a:rPr sz="4000"/>
            </a:br>
            <a:r>
              <a:rPr b="1" i="1" lang="en-US" sz="3200" spc="-1" strike="noStrike">
                <a:solidFill>
                  <a:srgbClr val="dddddd"/>
                </a:solidFill>
                <a:latin typeface="Times New Roman"/>
              </a:rPr>
              <a:t>lazy, weave, delicious, justice</a:t>
            </a:r>
            <a:endParaRPr b="0" i="1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watched Little Spider ____ a larg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v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felt ____, so she did not help Little Spid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br>
              <a:rPr sz="4000"/>
            </a:br>
            <a:r>
              <a:rPr b="1" i="1" lang="en-US" sz="3200" spc="-1" strike="noStrike">
                <a:solidFill>
                  <a:srgbClr val="dddddd"/>
                </a:solidFill>
                <a:latin typeface="Times New Roman"/>
              </a:rPr>
              <a:t>lazy, weave, delicious, justice</a:t>
            </a:r>
            <a:endParaRPr b="0" i="1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ate a _____ bug that got caught in th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icio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said, 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o bad you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 hungry, Big Spider, but tha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____!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22860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last week end I sent a leter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st weekend I sent a lett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my mom red a story at bed time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 mom read a story at bedtime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fish now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ow. (presen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fish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future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Y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nother very tricky charact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4-01-13T00:46:19Z</dcterms:modified>
  <cp:revision>160</cp:revision>
  <dc:subject/>
  <dc:title>Slide 1</dc:title>
</cp:coreProperties>
</file>